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4BF-C0C7-4B52-9B21-FCB40AF7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16D-3100-4777-AD08-0A4CDEE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71E-9D30-472A-BFEE-B3E67369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BD5-8F0D-4AC2-9B66-C6F7BA7F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E7B-F256-4B45-9351-EDC5C15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BEC-E3C1-40DC-92CC-C5D69756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BDF-2643-43D7-8CC3-E63CBBC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550-CBA4-4AAE-A0EF-72DD3AC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3A1-1119-4D44-9BCA-ABFEC171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92D-79F2-458E-8AFC-3AD54A1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F03-CC8B-4C78-B982-26D7C70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F90-CCFB-4F73-A5A6-F9AF711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566-AF5E-44F3-B131-3AC414D52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-Rutherford Diagrams for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895480" y="2514600"/>
            <a:ext cx="3529080" cy="3316320"/>
            <a:chOff x="2895480" y="2514600"/>
            <a:chExt cx="3529080" cy="3316320"/>
          </a:xfrm>
        </p:grpSpPr>
        <p:sp>
          <p:nvSpPr>
            <p:cNvPr id="43" name=""/>
            <p:cNvSpPr/>
            <p:nvPr/>
          </p:nvSpPr>
          <p:spPr>
            <a:xfrm>
              <a:off x="4119480" y="36669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59120" y="3379680"/>
              <a:ext cx="1728720" cy="158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00200" y="3019320"/>
              <a:ext cx="2449440" cy="23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35480" y="33066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67120" y="33066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7120" y="42433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2587680"/>
              <a:ext cx="3456000" cy="31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7120" y="38116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5480" y="294804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67120" y="29480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3840" y="38116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03840" y="42433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3840" y="51800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95840" y="518004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5680" y="56149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51120" y="251460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08560" y="409896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stated th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lectrons move around the nucleus in nearly spherical paths called orbitals, like planets around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number of orbitals for an element is the perio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number of electrons in an orbital is the number of the elements in the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eriodic_table_of_elements"/>
          <p:cNvPicPr/>
          <p:nvPr/>
        </p:nvPicPr>
        <p:blipFill>
          <a:blip r:embed="rId1"/>
          <a:stretch/>
        </p:blipFill>
        <p:spPr>
          <a:xfrm>
            <a:off x="1763640" y="2205000"/>
            <a:ext cx="5543640" cy="326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 rot="5400000">
            <a:off x="935280" y="3393360"/>
            <a:ext cx="1943280" cy="287280"/>
          </a:xfrm>
          <a:prstGeom prst="rect">
            <a:avLst/>
          </a:prstGeom>
          <a:solidFill>
            <a:srgbClr val="00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 rot="5400000">
            <a:off x="1222560" y="3393000"/>
            <a:ext cx="1943280" cy="28764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 rot="5400000">
            <a:off x="4895640" y="3249360"/>
            <a:ext cx="1655640" cy="287280"/>
          </a:xfrm>
          <a:prstGeom prst="rect">
            <a:avLst/>
          </a:prstGeom>
          <a:solidFill>
            <a:srgbClr val="00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 rot="5400000">
            <a:off x="5472000" y="3249360"/>
            <a:ext cx="1655640" cy="287280"/>
          </a:xfrm>
          <a:prstGeom prst="rect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 rot="5400000">
            <a:off x="6048360" y="3249360"/>
            <a:ext cx="1655640" cy="28728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 rot="5400000">
            <a:off x="6192000" y="3033000"/>
            <a:ext cx="1943280" cy="2872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 rot="5400000">
            <a:off x="5759280" y="3249360"/>
            <a:ext cx="1655640" cy="28728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 rot="5400000">
            <a:off x="4355640" y="-387360"/>
            <a:ext cx="360360" cy="554508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179280" y="2025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o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5"/>
          <p:cNvSpPr/>
          <p:nvPr/>
        </p:nvSpPr>
        <p:spPr>
          <a:xfrm rot="5400000">
            <a:off x="4392000" y="-63360"/>
            <a:ext cx="287280" cy="554508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7380360" y="2349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iod 2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2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7"/>
          <p:cNvSpPr/>
          <p:nvPr/>
        </p:nvSpPr>
        <p:spPr>
          <a:xfrm rot="5400000">
            <a:off x="4392000" y="295200"/>
            <a:ext cx="287280" cy="554508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179280" y="270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iod 3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3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"/>
          <p:cNvSpPr/>
          <p:nvPr/>
        </p:nvSpPr>
        <p:spPr>
          <a:xfrm rot="5400000">
            <a:off x="4355640" y="620280"/>
            <a:ext cx="360360" cy="5545080"/>
          </a:xfrm>
          <a:prstGeom prst="rect">
            <a:avLst/>
          </a:prstGeom>
          <a:solidFill>
            <a:srgbClr val="00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7380360" y="2997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iod 4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4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-Rutherfor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hr-Rutherford diagrams represent the arrangement of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protons, neutrons, and elect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n an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se diagrams, the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number of protons and neut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re written in the centre to represent the nucleus of th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les are drawn around the nucleus to represent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orbital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and electrons are shown in these orb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Bohr-Rutherford diagr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23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hium (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91628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997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ton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35002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electron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05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421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mass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852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2565360"/>
            <a:ext cx="1728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2205000"/>
            <a:ext cx="244944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2492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2492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0574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add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rbital can hold up to 2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and third orbital can hold up to 8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illing orbitals with electrons, place the first 4 electrons in a compass point before pai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Bohr-Rutherford diagr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0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(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91628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997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tons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5002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electrons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05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421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mass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2852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565360"/>
            <a:ext cx="1728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205000"/>
            <a:ext cx="244944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492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492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3429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773360"/>
            <a:ext cx="3456000" cy="31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299736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133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2133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0360" y="299736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429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4365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4365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8006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85080" y="3284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hr-Rutherford diagram of the first twenty elemen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Bohr-Rutherford diagrams of the first TWENTY elements on the chart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4479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 in the outer orbital are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 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34120" y="2362320"/>
            <a:ext cx="2909520" cy="2666520"/>
            <a:chOff x="5334120" y="2362320"/>
            <a:chExt cx="2909520" cy="2666520"/>
          </a:xfrm>
        </p:grpSpPr>
        <p:sp>
          <p:nvSpPr>
            <p:cNvPr id="124" name=""/>
            <p:cNvSpPr/>
            <p:nvPr/>
          </p:nvSpPr>
          <p:spPr>
            <a:xfrm>
              <a:off x="6229440" y="3243960"/>
              <a:ext cx="1120320" cy="105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0520" y="2825280"/>
              <a:ext cx="2016360" cy="188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4120" y="2510280"/>
              <a:ext cx="2909520" cy="251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560" y="2695320"/>
              <a:ext cx="335520" cy="31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680" y="2695320"/>
              <a:ext cx="335520" cy="31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62800" y="2362320"/>
              <a:ext cx="335160" cy="31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0880" y="2438280"/>
            <a:ext cx="457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valence electrons does lithium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1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eriodic_table_of_elements"/>
          <p:cNvPicPr/>
          <p:nvPr/>
        </p:nvPicPr>
        <p:blipFill>
          <a:blip r:embed="rId1"/>
          <a:stretch/>
        </p:blipFill>
        <p:spPr>
          <a:xfrm>
            <a:off x="1763640" y="2205000"/>
            <a:ext cx="5543640" cy="3265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 rot="5400000">
            <a:off x="935280" y="3393360"/>
            <a:ext cx="1943280" cy="287280"/>
          </a:xfrm>
          <a:prstGeom prst="rect">
            <a:avLst/>
          </a:prstGeom>
          <a:solidFill>
            <a:srgbClr val="00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5400000">
            <a:off x="1222560" y="3393000"/>
            <a:ext cx="1943280" cy="28764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28600" y="806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 rot="5400000">
            <a:off x="4895640" y="3249360"/>
            <a:ext cx="1655640" cy="287280"/>
          </a:xfrm>
          <a:prstGeom prst="rect">
            <a:avLst/>
          </a:prstGeom>
          <a:solidFill>
            <a:srgbClr val="00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 rot="5400000">
            <a:off x="5472000" y="3249360"/>
            <a:ext cx="1655640" cy="287280"/>
          </a:xfrm>
          <a:prstGeom prst="rect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 rot="5400000">
            <a:off x="6048360" y="3249360"/>
            <a:ext cx="1655640" cy="28728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 rot="5400000">
            <a:off x="6192000" y="3033000"/>
            <a:ext cx="1943280" cy="2872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 rot="5400000">
            <a:off x="5759280" y="3249360"/>
            <a:ext cx="1655640" cy="28728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371600" y="14922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2438280" y="7621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267080" y="7621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4952880" y="137160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6248520" y="7621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7086600" y="1295280"/>
            <a:ext cx="18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 for 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3048120" y="14479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21:52:25Z</dcterms:created>
  <dc:creator>User</dc:creator>
  <dc:description/>
  <dc:language>en-US</dc:language>
  <cp:lastModifiedBy>User</cp:lastModifiedBy>
  <dcterms:modified xsi:type="dcterms:W3CDTF">2012-02-08T14:48:56Z</dcterms:modified>
  <cp:revision>5</cp:revision>
  <dc:subject/>
  <dc:title>Bohr-Rutherford diagrams for atoms</dc:title>
</cp:coreProperties>
</file>